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128-0224-43E7-AB71-B544A7C1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A06-F8BF-41F0-8FCE-123D2D57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AD9-F70E-44AE-9A82-AA295DDE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66C-78D1-4609-B582-10F3F4AC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D90-F807-449C-A182-11A1538A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EB2-E366-4292-AC8D-5A8093C0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FB6-3465-4309-9B52-809CB6A6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57E-3FF1-42B3-8814-262393DA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848-F34B-4E77-B4C9-DBB02AF8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FD8-03EE-4AEA-AA3D-786A9A3D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E4C-CFBC-45DD-B8A1-A9016940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5EB-EB8C-4239-A4F4-D7F987C4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0221-AC6F-41FD-9C55-207D30FFE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School Wires Calendar to keep your students and their parents up-to-date with classroom events and assig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0080" y="3198960"/>
            <a:ext cx="987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Calenda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4800600"/>
            <a:ext cx="14446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your page, then click “Sav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2960" y="4113360"/>
            <a:ext cx="1144440" cy="1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267080"/>
            <a:ext cx="685800" cy="3841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ose your calendar from the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5257800"/>
            <a:ext cx="6094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5105520"/>
            <a:ext cx="838080" cy="304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the “New Event” t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514600"/>
            <a:ext cx="83844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lect the date, “Event Title”,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11160"/>
            <a:ext cx="9144000" cy="504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3124080"/>
            <a:ext cx="11430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267080" y="2514600"/>
            <a:ext cx="1067040" cy="5335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791320" y="3124080"/>
            <a:ext cx="1676160" cy="1219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6019920"/>
            <a:ext cx="990720" cy="5331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event will show up on the cale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33920" y="5334120"/>
            <a:ext cx="1371600" cy="6094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743200"/>
            <a:ext cx="45720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6320" y="2057400"/>
            <a:ext cx="8991360" cy="4761000"/>
            <a:chOff x="76320" y="2057400"/>
            <a:chExt cx="8991360" cy="47610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76320" y="2057400"/>
              <a:ext cx="899136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76320" y="2057400"/>
              <a:ext cx="8991360" cy="476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828800" y="3048120"/>
            <a:ext cx="457200" cy="3808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2:48:47Z</dcterms:created>
  <dc:creator>%$#@1</dc:creator>
  <dc:description/>
  <dc:language>en-US</dc:language>
  <cp:lastModifiedBy>%$#@1</cp:lastModifiedBy>
  <dcterms:modified xsi:type="dcterms:W3CDTF">2010-04-27T02:54:05Z</dcterms:modified>
  <cp:revision>2</cp:revision>
  <dc:subject/>
  <dc:title>Calendar</dc:title>
</cp:coreProperties>
</file>